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A73-E531-44D1-A477-920C89FA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7D4-563D-4414-88E3-19749D9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CC7-7D33-4A66-B8B4-C004183B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8B8-A288-4FCF-8E26-FEA87DE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6B09-41B0-4148-A4F9-89BB7A4C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BDAD-09C4-4E80-9289-2C2E3347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738-09AB-4D3C-8331-20634941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1544-6726-49D6-A397-C13C729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C4B1-5026-4303-A7C5-AFA13767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2D91-B82D-4D0A-9D63-8C96AE06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1883-B02C-47A6-AC2A-6B2D6DA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E16-10A3-4BC4-966C-1CB9AC3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8FC8-04B9-4F33-8E08-B0C5DED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899-F083-47E4-96CB-1E85504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733-CCA2-47BA-B23B-2871347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377F-1AF0-4D01-B5A1-2DAA0764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DB3F-EB4B-484B-9179-FAC17685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3D5-439E-4B93-BCCD-B0DB32A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B40-C3A8-4C18-BF9F-4EEC06D2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534-D283-4723-8059-5C525B9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DF6-2E29-44B2-9A20-015609FF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88F-517D-4663-B3F2-CC5D36D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E24-100B-4333-AB08-CB07BFA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106-E276-4C71-8718-009C13DE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0F8-6DFF-4B4B-BF84-07D363EB9F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4FE-2245-40B5-ACFE-E36462FE53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in the walls of blood vess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around hollow org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ch as the urinary bl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in layers around the respiratory, circulatory, digestive and reproductive tr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 and slender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ually tapers to a point at each 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ell has 1 nucle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bers are scattered throughout the 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go…NO STRIATION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divide eas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enerate after inj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contract on their own or triggered by neural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usually triggered by neural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KA non-striated involuntary mus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scles at a glance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280" y="609480"/>
          <a:ext cx="8763120" cy="5538960"/>
        </p:xfrm>
        <a:graphic>
          <a:graphicData uri="http://schemas.openxmlformats.org/drawingml/2006/table">
            <a:tbl>
              <a:tblPr/>
              <a:tblGrid>
                <a:gridCol w="1676520"/>
                <a:gridCol w="2438280"/>
                <a:gridCol w="2057400"/>
                <a:gridCol w="259092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c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el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ng, cylindrical, striated, multinuclea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ined with connective tissue and neural tiss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ves skeleton, guards entrances and exits to systems (sphincters), generates heat, protects internal orga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di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rt, branched, striated, single nucleus, connected by intercalating dis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ar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rculates blood, maintains blood pressur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moo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rt, spindle shaped, non-striated, single central nucle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und around walls of vessels, digestive, respiratory, urinary &amp; reproductive orga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ves food, urine, secretions, controls diameter of respiratory passages &amp; blood vessel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905120" y="1295280"/>
            <a:ext cx="2133360" cy="1143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295280"/>
            <a:ext cx="190512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295280"/>
            <a:ext cx="2362320" cy="17528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200400"/>
            <a:ext cx="2286000" cy="99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343400"/>
            <a:ext cx="1904760" cy="1295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200400"/>
            <a:ext cx="1752840" cy="8380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4267080"/>
            <a:ext cx="1905120" cy="1905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00400"/>
            <a:ext cx="2133720" cy="1066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4343400"/>
            <a:ext cx="2286000" cy="1447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 to 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les directly or indirectly attached to the skelet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roximately 700 muscles (not to worry, you won’t need to know all of th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basic fun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 movement in the skele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actions pull on tendons; thus move b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y be simple or complex m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posture and body pos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ous muscle contractions maintain body pos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out it, we would topple o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 Soft T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dominal wall and floor of pelvic ca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ort and shie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uard entrances and ex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ircular muscles (sphincters) are the openings and closings of the digestive and urinary tra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 voluntary control over swallowing, defecating, urin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body tempera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action requires energy; use of energy is 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king muscles keeps the body temperature in the normal functioning r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oss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ell is called a muscle fi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layers of connective tis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i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yer of collagen that separates the muscle from surrounding tissue and org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i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vides the muscle into bundles of fibers called fasci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has blood vessels and ner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oss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nective Tissues con’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o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rrounds each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 the end of the muscle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agen at all three layers bundle together to form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end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form a broad sheet called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poneur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dons connect skeletal muscle to b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oneuroses connect skeletal muscles to other skeletal mus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basic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les contr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olves 2 fibers: actin and myos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types of muscle t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ele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dia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raction for all three is the s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 of the actin and myosin differs, which makes the types of muscles diff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lood Vessels and Nerv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pimysium and perimysium provide the passage for blood vessels and ner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the pic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the pic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58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in muscle contra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ulse reaches synaptic bul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nter bul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sicles migrate to cell membr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sicle fuses with cell membr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etylcholine (ACh) released into synaptic cle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in Muscle Contra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h diffuses across synaptic cle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h binds to receptor proteins on motor end p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or end plate depolariz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gener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533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at the Cellular lev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or end plate depolariz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gener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mo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ong sarcolem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wn transverse tubu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o sarcoplasmic reticul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leased from sarcoplasmic reticul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96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029200" cy="50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752480" y="4191120"/>
            <a:ext cx="5562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3768840" cy="2654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38862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in very large, multinucleated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y long and sle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ells are often called muscle fi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apable of divi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fibers are formed from stem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ial repairs can occ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e to the organization of actin and myosin fibers, the skeletal muscle appear marked with a series of bands (striations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9480" y="3697200"/>
            <a:ext cx="3429000" cy="2847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733920" y="1658880"/>
            <a:ext cx="5029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ract only if stimulated by a nerve impul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raction is voluntar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KA striated voluntary musc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3323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800600" y="2057400"/>
            <a:ext cx="2590560" cy="398880"/>
            <a:chOff x="4800600" y="2057400"/>
            <a:chExt cx="2590560" cy="398880"/>
          </a:xfrm>
        </p:grpSpPr>
        <p:sp>
          <p:nvSpPr>
            <p:cNvPr id="171" name=""/>
            <p:cNvSpPr/>
            <p:nvPr/>
          </p:nvSpPr>
          <p:spPr>
            <a:xfrm>
              <a:off x="4800600" y="228600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9560" y="20574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24080" y="2819520"/>
            <a:ext cx="2514600" cy="457200"/>
            <a:chOff x="3124080" y="2819520"/>
            <a:chExt cx="2514600" cy="457200"/>
          </a:xfrm>
        </p:grpSpPr>
        <p:sp>
          <p:nvSpPr>
            <p:cNvPr id="174" name=""/>
            <p:cNvSpPr/>
            <p:nvPr/>
          </p:nvSpPr>
          <p:spPr>
            <a:xfrm>
              <a:off x="31240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31240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2767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148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ri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295280" y="205740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38080" y="1219320"/>
            <a:ext cx="888120" cy="4495680"/>
            <a:chOff x="838080" y="1219320"/>
            <a:chExt cx="888120" cy="4495680"/>
          </a:xfrm>
        </p:grpSpPr>
        <p:sp>
          <p:nvSpPr>
            <p:cNvPr id="181" name=""/>
            <p:cNvSpPr/>
            <p:nvPr/>
          </p:nvSpPr>
          <p:spPr>
            <a:xfrm flipV="1">
              <a:off x="838080" y="1219320"/>
              <a:ext cx="533520" cy="449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7200">
              <a:off x="1201320" y="2055600"/>
              <a:ext cx="3808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nd only in the HEA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riated, but cells are much smaller and only has 1 nucleu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nected to each other by intercalating dis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ed to form a network of efficient con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ves the force and stimulus from one area to another of the he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ed ability to repair itself; lack of stem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cardiac cells can divide after inj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airs are incomple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rely on nerve impul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specialized pacemaker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 a regular rate of con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rvous system can alter the pacemaker cells, but no voluntary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 striated involuntary mus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53514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648320" y="2666880"/>
            <a:ext cx="2438280" cy="1067040"/>
            <a:chOff x="4648320" y="2666880"/>
            <a:chExt cx="2438280" cy="1067040"/>
          </a:xfrm>
        </p:grpSpPr>
        <p:sp>
          <p:nvSpPr>
            <p:cNvPr id="192" name=""/>
            <p:cNvSpPr/>
            <p:nvPr/>
          </p:nvSpPr>
          <p:spPr>
            <a:xfrm>
              <a:off x="5105520" y="2666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648320" y="2743200"/>
              <a:ext cx="8380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09480" y="4191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lating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4080" y="2286000"/>
            <a:ext cx="1447920" cy="838080"/>
            <a:chOff x="3124080" y="2286000"/>
            <a:chExt cx="1447920" cy="838080"/>
          </a:xfrm>
        </p:grpSpPr>
        <p:sp>
          <p:nvSpPr>
            <p:cNvPr id="196" name=""/>
            <p:cNvSpPr/>
            <p:nvPr/>
          </p:nvSpPr>
          <p:spPr>
            <a:xfrm>
              <a:off x="365760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52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408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ri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0:12:06Z</dcterms:created>
  <dc:creator>Rich South</dc:creator>
  <dc:description/>
  <dc:language>en-US</dc:language>
  <cp:lastModifiedBy>Rich South</cp:lastModifiedBy>
  <dcterms:modified xsi:type="dcterms:W3CDTF">2007-03-15T13:54:39Z</dcterms:modified>
  <cp:revision>14</cp:revision>
  <dc:subject/>
  <dc:title>Mus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